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012-F107-4E46-B775-FBDACA0F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750-5A95-47B7-8F4D-774DE00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166-EBE6-4186-A01E-C7578208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48C-8035-4480-AECD-F32531C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01B-B0B8-4F5D-99A9-BEC0B8D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1B8-B9E3-4298-9CB3-C6A702AC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F8F-94DC-4812-8D5F-BC6948F6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CF7-F37E-42DD-BE43-C4E61DE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FB0-39B8-4987-986E-7E448626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E17-505D-47C3-A098-B973F45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55E-A558-41AA-9FF4-F5E9A02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235-E9C9-4614-9BDA-EAA9A2F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71A6-42DF-4E1E-97C2-2E6D67B8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4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swine flu virus tripled in the number of infected patients every week.  If there were only 7 people infected on May 1st, how many people in the US had the virus by June 1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Assume there are 4 weeks in a 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the eq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growth or dec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4495680"/>
                <a:ext cx="266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590920" y="2743200"/>
                <a:ext cx="3581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·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Ad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compound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3% monthly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990720" y="1143000"/>
                <a:ext cx="2082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SUBTRACT fro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annua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d at 6.7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1066680" y="1066680"/>
                <a:ext cx="20829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tiger population of 120,000 decreases by 7% each year.  If we do nothing to change the situation, how many tigers will be left after 5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growth or dec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00 rabbits in a lab.  Due to reproduction, they triple every 2 months.  How many will there be after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$38,000 SUV depreciates by 18.5% every year.  How much would it be worth after 10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bought a utility trailer in 2007 for $2500.  The trailer depreciates 7% each year.  What is the difference in the trailer’s value of between the years 2011 and 201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amar is breeding hopping ants in an ant farm.  Hopping ants quadruple every 3 months.  If Jamar initially had 10 ants, how many did he have after 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5:29Z</dcterms:created>
  <dc:creator>Sharon Fieldman</dc:creator>
  <dc:description/>
  <dc:language>en-US</dc:language>
  <cp:lastModifiedBy>sfieldman</cp:lastModifiedBy>
  <dcterms:modified xsi:type="dcterms:W3CDTF">2011-05-12T13:55:53Z</dcterms:modified>
  <cp:revision>11</cp:revision>
  <dc:subject/>
  <dc:title>Goal 4.04: Exponential Functions</dc:title>
</cp:coreProperties>
</file>